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9F0-487C-43A1-A185-0AAF3AE7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971-E4EA-4903-8B95-66D580F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6A9-1EB0-4126-A52A-38889DD4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760-2A70-4FF1-9E06-67837AA0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C2B-68AD-4305-B6EF-4218774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CC8-D343-44EE-A4BF-BBA13E9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A82-6955-4E89-893B-D87DD9DD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5EF-C8E4-428D-90FE-33A0827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8C2-8B70-4DE1-8FDA-D1C0D93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736-BE02-481F-B65C-A9487D4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44E-6001-4BB8-8341-F6D8D94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C41-F51F-4AAE-94E8-E49E147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98E-6BB9-472B-8490-338FF9DF7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-1176480" y="-969840"/>
            <a:ext cx="8802720" cy="3243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051youngr\Local Settings\Temporary Internet Files\Content.IE5\5Y8P5M10\MPj04393500000[1].jpg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52280" y="220968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a “web log” is on online journal where people can post entries on topics of their choice.  Entries appear with the most recent at the 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og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A person who writes a bl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 rot="1690800">
            <a:off x="5380560" y="856800"/>
            <a:ext cx="3424320" cy="1922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In a recent 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blog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post, a scientist stated he was close to discovering a new form of life in the oc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4920" y="5151600"/>
            <a:ext cx="57150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ogs in Educ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sh your work for the world to see and comment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 hobbies and inte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class discussions about topics being stud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29:02Z</dcterms:created>
  <dc:creator>Administrator</dc:creator>
  <dc:description/>
  <dc:language>en-US</dc:language>
  <cp:lastModifiedBy>Administrator</cp:lastModifiedBy>
  <dcterms:modified xsi:type="dcterms:W3CDTF">2009-03-06T17:58:25Z</dcterms:modified>
  <cp:revision>3</cp:revision>
  <dc:subject/>
  <dc:title>Slide 1</dc:title>
</cp:coreProperties>
</file>